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416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760" y="-360"/>
            <a:ext cx="295416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DejaVu LGC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4360" cy="341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876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0" y="8685000"/>
            <a:ext cx="295416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DejaVu LGC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5416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DejaVu LGC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7E887-9795-41CB-A8BF-6C4B0EEFFEF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144440" y="685800"/>
            <a:ext cx="455616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15840" y="685800"/>
            <a:ext cx="50245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44440" y="685800"/>
            <a:ext cx="455616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144440" y="685800"/>
            <a:ext cx="455616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144440" y="685800"/>
            <a:ext cx="455616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44440" y="685800"/>
            <a:ext cx="455616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43000" y="685800"/>
            <a:ext cx="455940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43000" y="685800"/>
            <a:ext cx="455940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E04A-F1BF-4E58-908D-F0585172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21196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14720"/>
            <a:ext cx="821196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8052-AE1C-477C-9CBC-2183BEBC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0716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880" y="1719360"/>
            <a:ext cx="400716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14720"/>
            <a:ext cx="400716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4880" y="4014720"/>
            <a:ext cx="400716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AAAF-8C66-4372-9B1D-6E056976D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264384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3160" y="1719360"/>
            <a:ext cx="264384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9840" y="1719360"/>
            <a:ext cx="264384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14720"/>
            <a:ext cx="264384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3160" y="4014720"/>
            <a:ext cx="264384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9840" y="4014720"/>
            <a:ext cx="264384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7C6E-6932-454E-B59F-4FD37F644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FCB0-0073-4700-81D1-C94E50E27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6840" y="1719360"/>
            <a:ext cx="8211960" cy="43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B686-0CDB-46A1-B8E2-78B660B0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2119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D489-DF51-4629-BB46-457DDA34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071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4880" y="1719360"/>
            <a:ext cx="40071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0C71-C187-4BB8-81DD-B6F860FE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EADA-CAA7-43EE-8504-AD65527E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76000" y="115920"/>
            <a:ext cx="7526520" cy="592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76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8E9E-803A-43A3-86E9-B787D274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0716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880" y="1719360"/>
            <a:ext cx="40071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4014720"/>
            <a:ext cx="400716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B6B7-9E7C-49FE-A8CE-8FC47803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19360"/>
            <a:ext cx="8211960" cy="43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F707-09B5-4A0E-90AC-6ACA0A7A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071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880" y="1719360"/>
            <a:ext cx="400716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4880" y="4014720"/>
            <a:ext cx="400716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9DCE-C29D-4B3B-BCD6-18F0EC50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0716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880" y="1719360"/>
            <a:ext cx="400716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4014720"/>
            <a:ext cx="821196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3896-CBF7-4C59-A0C4-89267694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21196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6840" y="4014720"/>
            <a:ext cx="821196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7DDC-90BF-42C3-A8AE-42588788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0716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4880" y="1719360"/>
            <a:ext cx="400716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840" y="4014720"/>
            <a:ext cx="400716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4880" y="4014720"/>
            <a:ext cx="400716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AD48-AFFA-47CD-86F8-B70175CF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264384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3160" y="1719360"/>
            <a:ext cx="264384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09840" y="1719360"/>
            <a:ext cx="264384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6840" y="4014720"/>
            <a:ext cx="264384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3160" y="4014720"/>
            <a:ext cx="264384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09840" y="4014720"/>
            <a:ext cx="264384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45F7-7476-4E8C-BA15-5504E2DA9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2119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2FB6-EDC2-4D68-8029-39715772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071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4880" y="1719360"/>
            <a:ext cx="40071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E3F2-70B0-4576-8953-1B660D47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A53A-4C26-499C-A398-8B9E2204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115920"/>
            <a:ext cx="7526520" cy="592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76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58BE-B49C-4FA5-A01F-1FB99F02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0716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4880" y="1719360"/>
            <a:ext cx="40071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14720"/>
            <a:ext cx="400716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D23B-F1D8-4F76-B95F-4DF9169F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071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4880" y="1719360"/>
            <a:ext cx="400716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4880" y="4014720"/>
            <a:ext cx="400716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2A39-EBB0-4066-91D7-1C3592CA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0716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4880" y="1719360"/>
            <a:ext cx="400716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14720"/>
            <a:ext cx="8211960" cy="20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F2F9-4CC2-4585-8445-EA5CC031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719360"/>
            <a:ext cx="82119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76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76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1608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7820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211608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1B46E-B173-49ED-AFDC-EF0AFF3DB9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76360" y="476280"/>
            <a:ext cx="67644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1608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7820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11608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6C923-0B25-436E-830F-417240C3EA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19520"/>
            <a:ext cx="8229600" cy="1440"/>
          </a:xfrm>
          <a:prstGeom prst="line">
            <a:avLst/>
          </a:prstGeom>
          <a:ln w="3816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19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76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76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76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76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76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76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76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linux.org/images/2/2d/ELC2010-gc-sections_Denys_Vlasenko.pdf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1908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76360" y="826920"/>
            <a:ext cx="67816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52080" y="3068280"/>
            <a:ext cx="839628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ELF Project and Con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456400" cy="1838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692360" y="5589720"/>
            <a:ext cx="624816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im Bi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ELF Architecture Group Cha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76000" y="114120"/>
            <a:ext cx="752796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inline PramF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1376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4360" indent="-68292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 PramFS (protected RAM filesystem) to the mainline kern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pose: Support a protected region of memory where applications or kernel can store data between reboo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ctor: Marco Stornel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: Still working on contra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ed to see if recent RAMoops work makes this obsole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76000" y="114120"/>
            <a:ext cx="752796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vestigate UBIFS mount time proble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1376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452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046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BIFS has poor mount time perform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4640">
              <a:lnSpc>
                <a:spcPct val="76000"/>
              </a:lnSpc>
              <a:spcBef>
                <a:spcPts val="649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046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s linearly with size of flas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452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046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ject is to measure times and identify problem are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452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046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ctor: Free Electr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452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046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: Contract signed, work has begu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452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046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ould have report by end of summ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4640">
              <a:lnSpc>
                <a:spcPct val="76000"/>
              </a:lnSpc>
              <a:spcBef>
                <a:spcPts val="649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046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ect report at ELC Euro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76000" y="114120"/>
            <a:ext cx="752796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inline YAFFS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1376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4360" indent="-68292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AFFS2 is a popular flash filesystem, but it is out-of-tre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al is to mainline the file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ctor: Aleph 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: Contract signed, work has begu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-funded by Google and CEL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issues with YAFFS2 supporting more than just Linu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76000"/>
              </a:lnSpc>
              <a:spcBef>
                <a:spcPts val="649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t-of-tree version of YAFFS2 needs to be maintained for WinCE and other embedded O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76000" y="114120"/>
            <a:ext cx="752796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ce data format standar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1376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3200" indent="-40320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k to create a single, standard file format for trac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al is ability for any viewer to run on the data from any trac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n’t plan to have every tracer produce file as their native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96720">
              <a:lnSpc>
                <a:spcPct val="76000"/>
              </a:lnSpc>
              <a:spcBef>
                <a:spcPts val="649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tead, write converters for each tracers to the standard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ctor: Effic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: Contract sign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76000" y="114120"/>
            <a:ext cx="752796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nline RT-preempt train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1376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4360" indent="-68292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e tutorial and training materials to help developers use RT-preempt effective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76000"/>
              </a:lnSpc>
              <a:spcBef>
                <a:spcPts val="649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 will be placed on elinux wik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ctor: K Compu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: Contract Sign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chartd in busybox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2119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s 'bootchartd' support to busybox, so that user-space bootup can be recorded and then converted to nice ch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ctor: Denys Vlasenk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: Work is comple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6000"/>
              </a:lnSpc>
              <a:spcBef>
                <a:spcPts val="649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awaiting test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6000"/>
              </a:lnSpc>
              <a:spcBef>
                <a:spcPts val="649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shiba has a test report in this Jamboree!!  (Thanks!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-Boot ARM Enhance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2119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 U-Boot on A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6000"/>
              </a:lnSpc>
              <a:spcBef>
                <a:spcPts val="649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 for turning on caches during bo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6000"/>
              </a:lnSpc>
              <a:spcBef>
                <a:spcPts val="575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hould significantly improve boot ti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6000"/>
              </a:lnSpc>
              <a:spcBef>
                <a:spcPts val="649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ility to relocate kern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6000"/>
              </a:lnSpc>
              <a:spcBef>
                <a:spcPts val="649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 for multi-stage bo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ctor: Denx 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: Contract still in progr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execboot improve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2119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xecboot is a UI when using Linux kernel as a bootloa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 kexecboot in a number of w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6000"/>
              </a:lnSpc>
              <a:spcBef>
                <a:spcPts val="649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 MIPS architecture and UBIFS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6000"/>
              </a:lnSpc>
              <a:spcBef>
                <a:spcPts val="649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 text user interf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6000"/>
              </a:lnSpc>
              <a:spcBef>
                <a:spcPts val="649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rove graphical user interf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6000"/>
              </a:lnSpc>
              <a:spcBef>
                <a:spcPts val="649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e users and developers gui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ctor: Yuri Bushmele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: Contract signed, work not started y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Arial"/>
                <a:ea typeface="Arial"/>
              </a:rPr>
              <a:t>Conferences</a:t>
            </a:r>
            <a:endParaRPr b="1" lang="en-US" sz="4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019400"/>
            <a:ext cx="6400800" cy="17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31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st Conferen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4582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C  2010 – April 12-14, San Francis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76000"/>
              </a:lnSpc>
              <a:spcBef>
                <a:spcPts val="649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ort at Jamboree after lun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315200" y="6248520"/>
            <a:ext cx="114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DAA99-13E4-45CA-8663-6520931CC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vious proj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Project List for 20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ct work upd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fer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76360" y="114120"/>
            <a:ext cx="7531200" cy="128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Conferences coming up..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21700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inuxCon  (US) – August 10-12, Bost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inuxCon Japan – September 27-29, Toky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LC Europe 2010 – October 27-28, Cambridge, U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Kernel Summit – November 1-2, Cambridge, Massachuset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mbedded Linux Confere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2119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nformation available a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6000"/>
              </a:lnSpc>
              <a:spcBef>
                <a:spcPts val="649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ttp://www.embeddedlinuxconference.com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LinuxCon Jap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2119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eptember 27-29 in Tokyo, Jap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6000"/>
              </a:lnSpc>
              <a:spcBef>
                <a:spcPts val="649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 Roppongi Hi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ELF is a sponsor and is helping to organize the embedded tra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mbedded Linux Summit planned for September 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C Europe 2010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2119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ocation: Cambridge, U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ate: October 27-2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posals accepted through June 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entative joint ev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6000"/>
              </a:lnSpc>
              <a:spcBef>
                <a:spcPts val="649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pen Source DLNA summ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6000"/>
              </a:lnSpc>
              <a:spcBef>
                <a:spcPts val="649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streamer confer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uestions &amp; Answers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4019400"/>
            <a:ext cx="6400800" cy="17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Arial"/>
                <a:ea typeface="Arial"/>
              </a:rPr>
              <a:t>Previous Contract Work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979280" y="3735000"/>
            <a:ext cx="6248520" cy="23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6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evious Contract 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lnSpc>
                <a:spcPct val="87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ction-sections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76360" y="114120"/>
            <a:ext cx="7531200" cy="128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ction-sec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21700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lnSpc>
                <a:spcPct val="76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dd support for compiler flag -ffunction-sections to Linux kern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6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oal is to shrink the size of the Linux kernel image by up to 1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76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ntractor: Denys Vlasenk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76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tatus: patches for linker section renaming are mainlined in 2.6.3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76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maining work is to fix missing dependencies at link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6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5440"/>
                <a:tab algn="l" pos="438120"/>
                <a:tab algn="l" pos="895320"/>
                <a:tab algn="l" pos="1352520"/>
                <a:tab algn="l" pos="1809720"/>
                <a:tab algn="l" pos="2266920"/>
                <a:tab algn="l" pos="2724120"/>
                <a:tab algn="l" pos="3181320"/>
                <a:tab algn="l" pos="3638520"/>
                <a:tab algn="l" pos="4095720"/>
                <a:tab algn="l" pos="4552920"/>
                <a:tab algn="l" pos="5010120"/>
                <a:tab algn="l" pos="5467320"/>
                <a:tab algn="l" pos="5924520"/>
                <a:tab algn="l" pos="6381720"/>
                <a:tab algn="l" pos="6838920"/>
                <a:tab algn="l" pos="7296120"/>
                <a:tab algn="l" pos="7753320"/>
                <a:tab algn="l" pos="8210520"/>
                <a:tab algn="l" pos="8667720"/>
                <a:tab algn="l" pos="9124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GB" sz="26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http://elinux.org/images/2/2d/ELC2010-gc-sections_Denys_Vlasenko.pd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Arial"/>
                <a:ea typeface="Arial"/>
              </a:rPr>
              <a:t>New Contract Work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979280" y="3735000"/>
            <a:ext cx="6248520" cy="23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6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76000" y="114120"/>
            <a:ext cx="752796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w 2010 Projec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1376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4520" indent="-34452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65120"/>
                <a:tab algn="l" pos="797040"/>
                <a:tab algn="l" pos="1254240"/>
                <a:tab algn="l" pos="1603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final result of CELF Open Project Propos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65120"/>
                <a:tab algn="l" pos="797040"/>
                <a:tab algn="l" pos="1254240"/>
                <a:tab algn="l" pos="1603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sentially ends the process that began in December 2009, to solicit project ideas from the publ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65120"/>
                <a:tab algn="l" pos="797040"/>
                <a:tab algn="l" pos="1254240"/>
                <a:tab algn="l" pos="1603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w hav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84040">
              <a:lnSpc>
                <a:spcPct val="76000"/>
              </a:lnSpc>
              <a:spcBef>
                <a:spcPts val="649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65120"/>
                <a:tab algn="l" pos="797040"/>
                <a:tab algn="l" pos="1254240"/>
                <a:tab algn="l" pos="1603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st of approved projects for 20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84040">
              <a:lnSpc>
                <a:spcPct val="76000"/>
              </a:lnSpc>
              <a:spcBef>
                <a:spcPts val="649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65120"/>
                <a:tab algn="l" pos="797040"/>
                <a:tab algn="l" pos="1254240"/>
                <a:tab algn="l" pos="1603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nding approved by CELF Architecture Group and Board of Direc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84040">
              <a:lnSpc>
                <a:spcPct val="76000"/>
              </a:lnSpc>
              <a:spcBef>
                <a:spcPts val="575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65120"/>
                <a:tab algn="l" pos="797040"/>
                <a:tab algn="l" pos="1254240"/>
                <a:tab algn="l" pos="1603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pproval was done in April at CELF meetings in San Francisc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pproved New Project Li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2119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ZO compression in SquashF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inline PramFS file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estigate UBIFS mount time probl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inline the YAFFS2 file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e a trace data format stand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line training for using RT-Preem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 bootchart logging support to busybo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hance ARM processor support in U-Bo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 kexecboot progr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652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ZO compression in SquashF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2119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ject to add support for LZO compression to SquashF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6000"/>
              </a:lnSpc>
              <a:spcBef>
                <a:spcPts val="649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is faster than zlib, but slower than LZ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6000"/>
              </a:lnSpc>
              <a:spcBef>
                <a:spcPts val="649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is smaller than zlib, but larger than LZ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GE provided patches for LZO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6000"/>
              </a:lnSpc>
              <a:spcBef>
                <a:spcPts val="649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should get submitted In 2.6.36 merge wind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751"/>
              </a:spcBef>
              <a:buClr>
                <a:srgbClr val="3d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F may pay Phillip a small amount for work related to pushing this upstre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toru Ueda</dc:creator>
  <dc:description/>
  <dc:language>en-US</dc:language>
  <cp:lastModifiedBy>Tim Bird</cp:lastModifiedBy>
  <dcterms:modified xsi:type="dcterms:W3CDTF">2010-06-03T22:59:39Z</dcterms:modified>
  <cp:revision>13</cp:revision>
  <dc:subject/>
  <dc:title>スライド 1</dc:title>
</cp:coreProperties>
</file>